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FF89-372D-4910-A3C9-61E21A731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C5E5-D52C-4BB4-9701-DF77A45CA1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7AAD-F6A6-4EB0-BA1D-DCFEB3B212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13E0-CD7B-4237-B024-231FDB011C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6A0E-BE9A-4DC5-942D-98D696EA4E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41F-DC24-4737-A644-6020D767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7536-6A20-4A14-A54A-71F23945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17EE-7EA0-4691-90FA-01D6995F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9A97-5717-4700-8007-B7F60AD5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AF9D-690C-4211-A77C-C4257AB4A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F46F-58DD-4CA0-931E-F482789F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7755-E0E5-4687-A421-184DE6A8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DF8C-ABBB-412E-8FFA-F54CD0C7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02E69-AD4A-48C7-AF3E-A3B5306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DB451-E024-401E-997F-66804412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C32A-1CB6-4D6D-BDD5-8D845F06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45F-9EE3-4D06-8738-EB70C131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2CA8-7A3C-450C-B8B4-2AD3BCB9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7131-A5F7-4D15-892C-1F888412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992F-C467-44F5-B8A2-F1379E5A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42DC-3BB6-44B6-8CAF-E5C09C34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0660-090E-43F0-8C13-8B3177C3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004-AE8A-42E3-B891-118ED5F3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16D9-6269-4DCE-BBF0-6AFD8841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DFA9-2E99-47E6-9BF0-F82FAB25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C14-8BF0-4C67-90F3-28A68B50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6DE-23B6-4B88-B763-2CFD52D8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958-CE01-4E81-81D9-856AEE81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82D3-CA7B-4D80-93D0-FCD29CD6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4E9E-351B-4D4C-AA19-8DE168FDB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2DEA-BBC3-4FA5-95D3-2CB0058FA9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rica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rica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p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cient Geo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rrent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rgest country in Africa? What country is to the north of this count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66680" y="4343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dan; Egyp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2)- $4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5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914400" y="4876920"/>
            <a:ext cx="6019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14400" y="434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frica (2)- $500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9" name="Picture 11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2"/>
          <a:stretch/>
        </p:blipFill>
        <p:spPr>
          <a:xfrm>
            <a:off x="1981080" y="1828800"/>
            <a:ext cx="3657600" cy="41306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7"/>
          <p:cNvSpPr/>
          <p:nvPr/>
        </p:nvSpPr>
        <p:spPr>
          <a:xfrm>
            <a:off x="4267080" y="297180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8"/>
          <p:cNvSpPr/>
          <p:nvPr/>
        </p:nvSpPr>
        <p:spPr>
          <a:xfrm>
            <a:off x="480420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9"/>
          <p:cNvSpPr/>
          <p:nvPr/>
        </p:nvSpPr>
        <p:spPr>
          <a:xfrm>
            <a:off x="5337000" y="3352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3124080" y="32004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4118400" y="5410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380880" y="59040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– Sudan; B – Ethiopia; C – Somalia; D – Nigeria; E – South Afr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871200"/>
            <a:ext cx="7467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aps 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three European countr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66680" y="5334120"/>
            <a:ext cx="51055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1143000" y="3200400"/>
            <a:ext cx="50292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156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aps 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295280" y="4952880"/>
            <a:ext cx="5486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– Desert;  B – Savan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- Rainforest; D – Savanna 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- Dese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Africa-large-BW.png"/>
          <p:cNvPicPr/>
          <p:nvPr/>
        </p:nvPicPr>
        <p:blipFill>
          <a:blip r:embed="rId2"/>
          <a:stretch/>
        </p:blipFill>
        <p:spPr>
          <a:xfrm>
            <a:off x="1143000" y="198108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7"/>
          <p:cNvSpPr/>
          <p:nvPr/>
        </p:nvSpPr>
        <p:spPr>
          <a:xfrm>
            <a:off x="32004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8"/>
          <p:cNvSpPr/>
          <p:nvPr/>
        </p:nvSpPr>
        <p:spPr>
          <a:xfrm>
            <a:off x="3200400" y="281952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9"/>
          <p:cNvSpPr/>
          <p:nvPr/>
        </p:nvSpPr>
        <p:spPr>
          <a:xfrm>
            <a:off x="3204000" y="3352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0"/>
          <p:cNvSpPr/>
          <p:nvPr/>
        </p:nvSpPr>
        <p:spPr>
          <a:xfrm>
            <a:off x="3124080" y="3886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11"/>
          <p:cNvSpPr/>
          <p:nvPr/>
        </p:nvSpPr>
        <p:spPr>
          <a:xfrm>
            <a:off x="3124080" y="4495680"/>
            <a:ext cx="6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aps 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990720" y="5410080"/>
            <a:ext cx="5715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azil, Peru, Argentina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i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Picture 5.png"/>
          <p:cNvPicPr/>
          <p:nvPr/>
        </p:nvPicPr>
        <p:blipFill>
          <a:blip r:embed="rId2"/>
          <a:stretch/>
        </p:blipFill>
        <p:spPr>
          <a:xfrm>
            <a:off x="1219320" y="1600200"/>
            <a:ext cx="5715000" cy="3813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6"/>
          <p:cNvSpPr/>
          <p:nvPr/>
        </p:nvSpPr>
        <p:spPr>
          <a:xfrm>
            <a:off x="4808160" y="2666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259416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3584880" y="373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2974680" y="3429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aps - $400 (Daily Triple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80880" y="586728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Bedford; B – Somerset; C – Camb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– Blair; E – Huntingdon; F - Fu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Picture 6.png"/>
          <p:cNvPicPr/>
          <p:nvPr/>
        </p:nvPicPr>
        <p:blipFill>
          <a:blip r:embed="rId2"/>
          <a:stretch/>
        </p:blipFill>
        <p:spPr>
          <a:xfrm>
            <a:off x="228600" y="1523880"/>
            <a:ext cx="6781680" cy="4343400"/>
          </a:xfrm>
          <a:prstGeom prst="rect">
            <a:avLst/>
          </a:prstGeom>
          <a:ln w="0">
            <a:noFill/>
          </a:ln>
        </p:spPr>
      </p:pic>
      <p:sp>
        <p:nvSpPr>
          <p:cNvPr id="236" name="TextBox 7"/>
          <p:cNvSpPr/>
          <p:nvPr/>
        </p:nvSpPr>
        <p:spPr>
          <a:xfrm>
            <a:off x="236988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Box 8"/>
          <p:cNvSpPr/>
          <p:nvPr/>
        </p:nvSpPr>
        <p:spPr>
          <a:xfrm>
            <a:off x="18324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9"/>
          <p:cNvSpPr/>
          <p:nvPr/>
        </p:nvSpPr>
        <p:spPr>
          <a:xfrm>
            <a:off x="2213280" y="403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Box 10"/>
          <p:cNvSpPr/>
          <p:nvPr/>
        </p:nvSpPr>
        <p:spPr>
          <a:xfrm>
            <a:off x="251748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Box 11"/>
          <p:cNvSpPr/>
          <p:nvPr/>
        </p:nvSpPr>
        <p:spPr>
          <a:xfrm>
            <a:off x="305136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822040" y="510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aps  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066680" y="518148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12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Picture 2.png"/>
          <p:cNvPicPr/>
          <p:nvPr/>
        </p:nvPicPr>
        <p:blipFill>
          <a:blip r:embed="rId2"/>
          <a:stretch/>
        </p:blipFill>
        <p:spPr>
          <a:xfrm>
            <a:off x="838080" y="2057400"/>
            <a:ext cx="640080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as the time period of history that saw a re-birth in learning?  (Middle Ages or the Renaissa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066680" y="4495680"/>
            <a:ext cx="5943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imes New Roman"/>
              </a:rPr>
              <a:t>Renaissance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argest country in the world in regards to land size? (Russia, Canada, Brazil, Suda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066680" y="4800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anad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90 % of Mexico’s people follow what religion?  (Islam; Roman Catholic; Buddhis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143000" y="46483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oman Cathol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3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frica (1) 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s a problem with pirates in Africa?  (Sudan, Somalia, Ethiopia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447920" y="4267080"/>
            <a:ext cx="487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Somalia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time known as when people used machinery and new methods to increase produc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14400" y="46483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dustrial Revolu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990720" y="5587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ncient Geography- $400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Daily Doubl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the region that makes up 77% of Russia?  This part of Russia lies east of the Ural Mountai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838080" y="434340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Siberia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990720" y="89676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ncient Geography- $500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66" name="Picture 6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nation is allowing the U.S. to fly drones over their land to check for drug smuggling operations:  Mexico, Canada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19320" y="464832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Mexic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ellular company will buy T-Mobile in a $39 billion deal to make the largest cell phone company in the United States: AT &amp; T; Sprin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066680" y="487692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AT &amp; T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315200" y="4425840"/>
            <a:ext cx="182880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f the coast of what African nation were a Danish couple and their three children recently kidnapped by pirates as they sailed around the world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990720" y="4343400"/>
            <a:ext cx="6476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Somal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bya and their leader Qaddafi have been in the world news for many days.  Libya is bordered to the north by what large body of water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295280" y="48006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editerranean Se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day of the war in Libya cost the United States $100 million.  Most of the expense was on what:  cash payments to Libyan rebels to get Qaddafi; missiles; British ground spi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838080" y="49528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issil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59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frica (1)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country controlled South Africa by the end of the 1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?  (Great Britain, Argentina, German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reat Britai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1) 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most industrialized country in Africa?  It is the world’s largest exporter and producer of go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outh Afr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5888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frica (1)  - 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is shaped like the number 7?  Also, what is the major religion of this countr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42670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alia / Isla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1)-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38080" y="51814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– Egypt    B – Libya    C – Tunisia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 -  Algeria   E - Morocc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3429000" y="2209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42296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10"/>
          <p:cNvSpPr/>
          <p:nvPr/>
        </p:nvSpPr>
        <p:spPr>
          <a:xfrm>
            <a:off x="19846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10" descr="Picture 1.png"/>
          <p:cNvPicPr/>
          <p:nvPr/>
        </p:nvPicPr>
        <p:blipFill>
          <a:blip r:embed="rId2"/>
          <a:stretch/>
        </p:blipFill>
        <p:spPr>
          <a:xfrm>
            <a:off x="1143000" y="2209680"/>
            <a:ext cx="5791320" cy="25401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1"/>
          <p:cNvSpPr/>
          <p:nvPr/>
        </p:nvSpPr>
        <p:spPr>
          <a:xfrm>
            <a:off x="4343400" y="3581280"/>
            <a:ext cx="4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366120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3127680" y="2971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274608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828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2)-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rue or False.  An enclave is a small country located inside a larger country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95280" y="5029200"/>
            <a:ext cx="632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has the lowest life expectancy in the world at 31 years of age?  (South Africa, Swaziland, Somali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219320" y="4343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wazila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2)- $2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the term known as when there was racial discrimination created by the whites from 1948 to 1994?  (Segregation, Apartheid, Separation Theo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371600" y="3886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parthei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80496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frica (2) – 3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1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5T12:59:01Z</dcterms:created>
  <dc:creator>Student</dc:creator>
  <dc:description/>
  <dc:language>en-US</dc:language>
  <cp:lastModifiedBy>Tom Otis</cp:lastModifiedBy>
  <dcterms:modified xsi:type="dcterms:W3CDTF">2011-04-05T14:02:45Z</dcterms:modified>
  <cp:revision>137</cp:revision>
  <dc:subject/>
  <dc:title>Jeopardy</dc:title>
</cp:coreProperties>
</file>